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63F-9588-4011-987A-D649E426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605-027A-460D-9A21-30064E5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D59-1C61-4DC5-BCC2-2AFD94E6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05D-F51D-407E-80C7-5514D964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A9C-432A-47B1-BC1F-651F2EB3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DCE-94A9-4923-B32C-39BADA08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613-3F2A-4887-8C34-025CC0B5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EF9-273B-464D-B91F-47B51716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CDD-E813-43E7-B036-9F23EF4F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69F-39F4-4C75-A556-7C73CFA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E9B-8CF3-4D45-B154-37849E78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31E-6684-4ED6-BF82-8B08D54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B36C-49E0-4C06-807D-E6AAF17A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ŠE  ZAČ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640"/>
            <a:ext cx="9144000" cy="682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8920" y="8366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MÝŠLELO  SE  A  ŘEŠ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7280"/>
            <a:ext cx="9144000" cy="628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1360"/>
            <a:ext cx="9144000" cy="651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BÍRALI  SE  NAŠE  PRVNÍ  H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5120"/>
            <a:ext cx="9144000" cy="592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UVIČI  SE UČILI 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49400" y="0"/>
            <a:ext cx="5243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8680"/>
            <a:ext cx="9144000" cy="619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DIČI  SE  SEZNAMOVALI  SE SCÉ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87200"/>
            <a:ext cx="9144000" cy="648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ČILI  SE  VODIT  LOU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8680" y="0"/>
            <a:ext cx="4884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1680"/>
            <a:ext cx="9144000" cy="625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60280"/>
            <a:ext cx="9144000" cy="633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RAVOVALI  A  UPRAVOVALI  SE  LOU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080"/>
            <a:ext cx="9144000" cy="6278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O  OBJEKT  SE  STAL  NAŠÍM  PRVNÍM  DIVADÉL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3000"/>
            <a:ext cx="914400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6920" y="54936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OVALY  SE  KULISY  A  VYRÁBĚLY  REKVI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12920" y="0"/>
            <a:ext cx="4716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VOŘILY  SE  SCÉNY  PRO  H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0120"/>
            <a:ext cx="9144000" cy="619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000"/>
            <a:ext cx="9144000" cy="631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14280"/>
            <a:ext cx="9144000" cy="622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31640"/>
            <a:ext cx="9144000" cy="599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EČNĚ  PRVNÍ  DIVÁCI  -  PODZIM 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82600"/>
            <a:ext cx="9144000" cy="62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HRÁLO  SE 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35080"/>
            <a:ext cx="9144000" cy="638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4360"/>
            <a:ext cx="9144000" cy="60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 DOHLEDU  HUSÁKA  JSME  ZAČALI  VÝKOPEM  JÁ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9600"/>
            <a:ext cx="9144000" cy="5697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2160" y="558972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OUCÍ  JÁMA  PRO  MLUVI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9760"/>
            <a:ext cx="9144000" cy="637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ŘEZALO  SE 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0"/>
            <a:ext cx="8661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ĚŘILO  SE 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0560" y="0"/>
            <a:ext cx="8101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616572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VĚLO  SE  JEV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4000"/>
            <a:ext cx="9144000" cy="675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TEPLOVALO SE A OBKLÁDA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1920" y="0"/>
            <a:ext cx="4338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0:16:20Z</dcterms:created>
  <dc:creator>Vladimír</dc:creator>
  <dc:description/>
  <dc:language>en-US</dc:language>
  <cp:lastModifiedBy>Vladimír</cp:lastModifiedBy>
  <dcterms:modified xsi:type="dcterms:W3CDTF">2009-10-23T15:18:12Z</dcterms:modified>
  <cp:revision>3</cp:revision>
  <dc:subject/>
  <dc:title>Fotoalbum</dc:title>
</cp:coreProperties>
</file>