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D51-D031-4038-90C6-70E3E5C6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11D-521B-42B3-AFC7-8D8FCB3E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5DF-D7D4-47A9-9118-4098BACC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CAC-27A3-4263-A9C4-FA42130A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F9-3C35-434E-AB67-B3509EA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E38-4AC6-40F0-923A-283BEBDE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D65-9FB1-47EC-B0BE-4439C0E7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2C6-B833-4E1C-8828-B49EAF70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77C-C70B-4CF6-BBFB-F89B625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EC6-D7D5-429F-BE12-C1BF1C4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830-6AB1-4793-90BA-6A029EB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AC5-F06C-4B94-9A0E-EBFC627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C4F3-082D-4591-86E4-0E4686BE17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AVBA  DRUHÉHO  DIVA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40" y="0"/>
            <a:ext cx="911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ZKY  NÁM  TO  ROS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80" y="0"/>
            <a:ext cx="9078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HLED  NA  DRUHOU  STR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00" y="0"/>
            <a:ext cx="8848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É  JE  PRYČ  JE  TU  N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600"/>
            <a:ext cx="9144000" cy="677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  VYPADALA  NAŠE  FI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5520"/>
            <a:ext cx="9144000" cy="654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 PRVNÍ  BUDOVOU  SE  ZAČALA  STAVĚT  NOVÁ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480"/>
            <a:ext cx="9144000" cy="678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AHALI  JSME  CO  JSME  MOH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3280"/>
            <a:ext cx="9144000" cy="639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HLED  NA  BUDOUCÍ  SCÉ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8680"/>
            <a:ext cx="9144000" cy="620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DY  BUDE  NOVÁ  JÁ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0000"/>
            <a:ext cx="9144000" cy="631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ED  BOURÁNÍM  SE  STĚHOV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2760"/>
            <a:ext cx="9144000" cy="6432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NEC  NAŠÍ  PRVNÍ  SC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9000"/>
            <a:ext cx="9144000" cy="64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SELE  SMUTNÉ  LOU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0:41:30Z</dcterms:created>
  <dc:creator>Vladimír</dc:creator>
  <dc:description/>
  <dc:language>en-US</dc:language>
  <cp:lastModifiedBy>Vladimír</cp:lastModifiedBy>
  <dcterms:modified xsi:type="dcterms:W3CDTF">2009-10-24T13:13:03Z</dcterms:modified>
  <cp:revision>4</cp:revision>
  <dc:subject/>
  <dc:title>STAVBA  DRUHÉHO  DIVADLA</dc:title>
</cp:coreProperties>
</file>