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369-363D-4A79-AF88-FF95E3D4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7A0-C0A2-4EED-8306-8BD4D8BF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D42-0BED-4402-89A1-7403440E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CCB-5D06-4E9F-B9E9-D644B7B1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565-D467-408C-BFDD-F47D6943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EBD-4825-4D68-A0E1-2D32B73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8CC-8D53-4260-9B49-22AEB04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62C-7FE9-4875-979E-3C30F12D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BBC-454F-47E2-9CCD-0A6CFD3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131-9B21-48BA-967B-2945C25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EBA-8052-4815-94EA-6BDF375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57A-F992-48A2-81A3-299CE98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4F63-DC04-4028-A510-21721091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ŠE  TŘETÍ  DIVAD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ŠE  ZÁZEMÍ  K  ODPOČIN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720" y="6922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  STAVÍME  KUL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ŮHLED  DO  ZÁKULI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OVIŠTĚ  MLUVIČŮ  V  JÁ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O  NAD  JEVIŠTĚM  JE  KRÁLOVSTVÍ  VODI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DY  RELAX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  KRÁSNĚ  DNESKA VYPA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TUPNÍ  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ŠE  KRÁSNÉ  OSVĚTLENÍ  H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É  JEV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É  HLED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ĚTŠINOU  BÝVÁ  UPLNĚ  PL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6:50:57Z</dcterms:created>
  <dc:creator>Vladimír</dc:creator>
  <dc:description/>
  <dc:language>en-US</dc:language>
  <cp:lastModifiedBy>Vladimír</cp:lastModifiedBy>
  <dcterms:modified xsi:type="dcterms:W3CDTF">2009-10-24T16:36:55Z</dcterms:modified>
  <cp:revision>4</cp:revision>
  <dc:subject/>
  <dc:title>Fotoalbum</dc:title>
</cp:coreProperties>
</file>